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CE6A360-CF45-42B5-8353-2F99ED6F3B75}"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CA262AC-711E-4929-BFA2-653CADB9CE5A}"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50CB8779-0219-4A49-AA8F-84E76B3D223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67C4AE9E-0B06-459E-B8D2-08E6054296E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4CCFCC2-17FA-4766-958F-B0817BDCD87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E42302-F516-419B-8FE3-9A1AA626DF8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57D32EF-B43F-4925-BDFF-179FFEE33AA2}"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A621BE52-0917-417B-B72A-E7F6B6BF00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F5E0F18E-C1D1-4F00-8927-44005D5CDC9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336FE05-F601-46E4-AF83-6B6B3F6EFB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1975E740-E424-496E-965F-954B94E54FE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E1539A2-98E9-4FB9-9719-66CC59109E1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B87E9FF-E8B5-4F63-B45A-DE69F988EDB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597A6EE9-0181-4FA0-BC3F-184A31775E84}"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91DB2C8C-ADBC-40E1-82D1-E38929C1D903}"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9BC273B-6409-49CE-A8DB-105A2C7F24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B608B1-AD10-4C88-862F-BF0248CD28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EF4F808-14E1-40FE-ADCA-CDACEF0A3528}"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AC97D2FF-1473-46DD-92FB-7816FD6DE3FC}"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8A0F2FB9-1BBE-4B52-BD6A-B8C40EE64092}"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7731DF4-E226-4838-AB4D-857E81D31C7A}"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62E3CFE-0C15-40FF-92AF-2BECEF202C1E}"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9521AD1-86BD-4919-ADD6-836107CD44D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463495-BF86-401C-B640-04C3AE23A21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AE03446-C559-47E0-A88D-14FA11B70D79}"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AB51A918-A644-4AD0-9B17-FA8F79197F5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F42C44A8-15AA-4D65-BE36-461128A6296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11BE16-1364-4F84-A643-90E1ADC56B9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1776739E-CB57-4996-8AF7-1D3D25FC0B39}"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CA15A78-CAE7-4621-A7E3-ECA05FAD07E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4564E86-6D84-4B9D-8B43-3A6F32E00C6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152922D-C2A1-4836-93EA-5AFD48300CE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C9B5A08-55C7-492C-9091-B475009DE2DF}"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76B1111-C5EE-42DA-8E36-269042708E0E}"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3D61D183-C822-4662-9CCA-4335DAF4347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D9A8AB-10F2-4AC6-8B4A-CAB0E8AE878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66570FB-E303-4FDA-959B-0908FEA816D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1C256FD3-31EB-423B-8C25-D7A524A459E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5F35EACA-1834-42EC-9B1D-A5C3BD38EC93}"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96A1127-9987-4DC3-B2AF-41B2CF4FEEE0}"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BBC7D802-8934-4096-B106-6E59C9E74FB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7A0873B-9EC3-4792-9F81-F757D055479D}"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D73CF08D-0973-4B2D-9831-7AD4D0DE4BB4}"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0FF48768-ED4B-4C4B-AC9B-0C8ABCD44269}"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83E3CB7-27CE-44AC-8BE5-D5E6A2B7146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43F129D0-AEEA-4DDA-A3EC-168606AEE877}"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481627-E2B2-4E4A-98FD-06ECBFE3808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DB52752-F402-4E72-82ED-08C15571D76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B8F7CE4-8685-4A83-81AF-57E2502EE2DA}"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CF8A76D-78A2-469F-8556-3F8C455C69A3}"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F8CA551-2C02-4049-8EFE-C3F19F841023}"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9E06C3FE-9F2D-45DA-8824-53A114D62EB2}"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FF38828-1385-4617-9267-6F02C6FF99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1E1E8B-4478-458F-AE7C-5EEA54881026}"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E6E692B-E74A-46F5-8421-F19FE537BC3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74BBF57-A889-4C45-84E9-87C1A8FA0D1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0D281004-6059-4160-AE32-0D9F1EEF61E0}"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4ACC07C-42B3-402D-B862-9A8B2E7F3F0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9C0267BD-5467-4FE3-A9A2-2A148310A6E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45ABE9A-7A40-4E1D-84FF-EE2ACC96CCAD}"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9659C68B-0A19-4C9B-8CD1-DBF827A1FA0C}"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723E1B59-DA60-4C3E-9FD5-5E7C294CF617}"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39CD46C7-ECCE-41BF-A893-F2AAF098E34C}"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F249F9C-9DA7-436A-AB83-EC2730DE64B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586DDB9-933D-4BBD-9E5E-B18C409346C5}"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A23B221-E2F7-4D65-8937-318F39955E15}"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D57B96B-539D-4E10-AA93-93CCA45D4BD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2190A25-6BC3-4D41-A035-CAF61A13E7F0}"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1A1106-6B82-4FDB-B75A-D8FE81ED58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4703C18-92A6-4B84-8A01-8F57D06A569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BA268CC7-817D-42DC-9251-15AC3729109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51B23B4D-DE2F-4905-BE99-B646DB7838AE}"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D8B9B722-C8FB-4C88-9D26-A6FC23E7B06D}"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D705F219-B8AF-484F-AF0D-9B4A7CE439A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8DFE8846-7EA9-40AC-BE28-B294909685B9}"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FBE4F8D3-4BD0-4799-9E05-6AC59CF72E5D}"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D653EE71-9623-40EC-AF37-2CA492D50F6C}"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62376E3-43F2-47DD-BC87-3EED2375181E}"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E3CB1EC9-E6B2-4C9E-8D10-52A46446D1A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1EC1AA4-170E-4E99-9B97-39684531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38CC72-26EE-4C62-A7CF-FCC1FC9A153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8EB46B15-E909-47AF-A64B-02F26B7BB1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3AFE85A-6F62-4D50-8557-16BC9BB480B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BE63998-C22C-4C96-B116-9F1A4160A99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0D2F018-A170-4F88-815A-495E7FFDAB6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0944B44-9C68-416B-B240-1471C92E983B}"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C91B9B1-016A-4473-B6C1-CBF6E090AE7F}"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D9CF5A28-0B57-4F72-8D11-CABF70EA7FF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EA44678B-31F6-47A1-8BA8-B2F92F41C248}"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271C637-1F9D-4877-BDC9-74F31A50B1E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BF5DC9B-B6F7-4D43-BE71-E1FA9B9571BA}"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A224A7E-8DA2-4E7A-99BF-879419FB937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DA895D4-C695-4181-8AD1-030B2C40088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5B7C37D-81F5-4859-BBEA-EC66ED9E582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16F9AAE-1680-48AA-9DCA-0A5997F9B26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269B715-FFF0-4C2D-969F-5C147E8495AC}"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257F086A-936E-44A5-A016-F09F1B6D80D2}"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8B7836FB-A20E-405B-BA21-3BE80F18AA89}"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75F70ABA-C7F4-42C2-B452-4B51BD7B616D}"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858CB53E-865D-42FD-9686-C2B05F13C0F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B9D7D40-C12F-40B4-984A-1572A1B8461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976CE1C4-0C66-4FAB-91A8-87BA3F86F370}"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987CAC-4C66-47BF-BCE0-10A4AE990A9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CC7DE05A-8B59-4A24-A325-2B2AE50B532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FE7AE1EE-78FD-41EF-A661-0CF9804EF3CD}"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E8F8D482-B13D-42A1-9853-203471737FD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DCBE24A-D603-4194-A227-402E3A3EB50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0208A11-0076-4574-99ED-09FA15FA3890}"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9986D77-4502-4017-8910-98E8DF6C63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8BE349A1-B2A7-451D-BF3C-7BD2C20762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79CB6A8-95B5-4F9A-9DA1-4CBACD658AAD}"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E34C82A8-0B71-4753-B424-3B083BF59BD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A3BEC147-C177-4FAF-AD57-5BEF5D7BC65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39186F9-16B3-49D1-B1D4-3BB3B4B2128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70F889D-A07E-4866-89A8-CB1E04A95CAC}"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9C01298-932D-4B31-9DB6-5865AD65501F}"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1F1112FC-6CC6-44C9-BDBD-12C4C492B0ED}"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B08E5297-4E0A-4895-A6DF-00A97028A3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A1C9D2A-D7A2-4CB5-BFDC-789B2B020CF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229DD75-AA97-4E5C-9F39-6374CBE82D31}"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D084E13B-9E64-4DE2-9014-D10FD3D3A08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7B95644-2608-4766-9462-F67DE72AF36A}"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25321A1-12A4-4625-83CC-24ED9159EC3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FD73362-F9E3-4B3B-9FC0-5887F326B8CF}"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0FCB10D-2CCC-410B-890D-66A189F8F52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51539BC5-A9C3-47C0-9A56-27B0E00234FB}"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08A888-B574-400A-A296-F8E3F703726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AA4349AE-BD80-4308-90FB-50D7EB0DD5A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C99BF4E-6FAA-458E-8E50-326AC457534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C23A54B-B53F-4714-BF1F-4BB2D957F61A}"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6EE4E3-6008-46FD-A962-6CF880B2BD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C3F0FBCD-27D3-41A5-9864-38ADE6C4A63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59BAE88-8DD1-4ED7-B0AB-DC36137230E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72E305F6-D0CF-456A-A18E-6A704FF2B44D}"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7AE87B3-2F9E-4C91-8240-A24503E2021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7ADE4F56-CEBD-4340-AB4E-13818DDCB62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5A787E8-CE2E-4F9B-BA76-C4310C1B99F7}"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A0361D4-AA06-41B0-8597-1FD19014AD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5249CC1F-9ADD-42E5-993D-8978B2FEDA04}"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8832D52-77DA-488D-864B-75E381F86473}"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5D412ABA-EA16-4304-AEA0-2B0A87CB4FA9}"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10DA04-E9F7-4CAC-B118-BA8291337E8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F63582E5-E02D-45FE-AA9B-6272ADFA1DB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682E661-ECF3-422C-B00F-1EE6CFDA5A07}"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2F22673-A6CC-4CD2-8F86-91413636482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A89FBC8-6A62-4092-91D5-69180D501E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557063B-D2F8-4E6F-B727-75B42F40D1C2}"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7C91F56-71F3-448C-BCF5-CF6E5A53CCB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8C79A0D-8E45-427C-B7B1-14F99DDFFC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59893F7-8A59-4E01-B9C9-069B720206B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4430DE56-BF8B-4DA5-82FF-AF4FC2C1FEF0}"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A5F317C2-220F-4521-AEF3-30F26876ABEE}"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D563FB-2206-4C43-A61C-F37F6BD703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0D519911-BF98-4061-B07E-5A5A5EE80CE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E9FBCBDD-759D-4DC5-9044-34AA41500874}"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BFD5B5A-FF5B-436B-9C77-323CAA78E09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A4BDF052-F10E-44B7-857B-C8A64C86B25E}"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6AC07B-3EF3-4E68-9876-8A6076A158D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9B785D2-8857-49F5-8D14-83782692C6F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66225D2-BD9A-46F3-BBB7-B945E1A2AC9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8CF44BC-AB0A-45AA-B13C-E4086F10721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6289CCFF-8C2F-4D7D-8EB3-EEB0916FBE4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7106B50-CE40-4E33-AA06-F0818E964B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5F46DD-1A59-4F12-9F7B-CF8B9ADEF7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5A70ED-4B8F-4A97-B971-7753BE55989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666A4A3-92D4-4ED7-884D-ACABDFE8B17E}"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7AC59968-4605-4F8E-BB08-A13EAA83DD6C}"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78A89AF0-73A1-4A79-841C-0F0A47DC5BD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797655-E407-426B-9CA9-0671261DFE8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4B75BCF-C483-43A8-B7D3-A8AEB24D457D}"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EA21AC6F-2F71-48D2-9642-35593CD94C55}"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FE09614-6FF4-4CCB-9F52-E2696626D4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11D3B4D-DB57-4EE5-8114-53C2F3A62F4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24776D2-9EA5-475C-A875-826D152518E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833651-7A12-47CD-938B-4AD663CFCF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F858BE56-E260-45B1-8327-85127C62FDF9}"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73B668F-3D67-44B3-897D-DC42CF0A06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C116D2E-1144-441B-936D-7444FA81776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DCAAA979-5479-475B-802F-D38C28EAA31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12236AF-79A6-46B1-B546-D6D47913FDA7}"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13D12B3F-82DE-40EB-B0DA-C54353B4D851}"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D8783E8-81DC-40D7-B626-856F94B29E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4C156E-A1A5-47CA-8242-F9887AD31A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0B7B8ED5-DC6F-45A6-8096-ACD4CA84F0C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39BE5855-F744-4744-88AD-0B34E487E34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F73F28-9B06-46F5-B356-D6FBB31EE2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CE372C8-6616-4974-9DB1-6AD4A8442A2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90EC1AFD-DF0B-4A41-AC2E-FD1D550341E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77EE80F1-BAD4-4300-B7C6-589560EF64A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33F1A15B-9324-4815-8911-831E5EF3049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4F63B50-4246-45DD-8AE0-A7750C587F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1C275D79-17B4-46A8-B897-6ACDD8D5F7C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0632A3CF-DD95-4F8A-8D2D-FA41DE9EED2D}"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C06DAB3A-A161-4CDE-B2CA-AD7BD67E147C}"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7CE4904C-C8F1-442C-8B55-E5779094F169}"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8433DC51-9BE9-4D8C-A10F-529B1D0BFF26}"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E62C7AA9-10A6-4BD6-A159-3D608CF7587C}"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0E9D7E7-AFE7-45F0-A3E6-52387EBA727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BA01C14-F9F0-490C-B920-BF10564F2FE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B513F0B-AECC-4436-96EC-1A4B8D79C5B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9C21042-0731-4D3D-BFB9-97175C8DF56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5825A8C-66B3-4124-8B2B-7BF589FA86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4BBE5CD-27E9-4AD9-AB21-85390FBC1B6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A17EAFE-DF5F-40ED-A9F1-86525FD3D8E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FE52BE-7C20-4329-8077-0A190378982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37665DB-7D76-47CC-AC18-1A63F7B69E7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34FF1D-6C9C-4BE5-B50B-25FF36E1A0F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BE1D7A5-8535-469C-A2B1-4D9460717B7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60D9CB4-B1E1-4C87-96AC-0418B7E3F65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42C3BD8-9689-47BC-BB11-8EFA5E3BC8A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9CD9D15-CA87-415E-812C-4FB673C19A1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0AF9E00-E0E3-4072-B8B1-3C45790D0E5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